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3A3B4-AD74-42FE-8D51-514C6A65B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3A29-6E40-4C12-A821-B4E25CCB4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2161-5321-4525-BF62-110337408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2E0-46B5-42CA-BD3A-B75D90A81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F8A2-F514-4084-9548-3A72693A0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86BE-7975-44E1-B916-FEB496CAE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AADC-A8A5-40C9-8180-FF19B031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001C-72FD-4575-9518-6F8642077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DF48-6CCD-4ECA-982A-529CEA3C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2DC5-731A-440F-8037-206F8D74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F257-8B82-4B03-8560-48673531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488A4-AAF9-41A7-AFE3-8E987F3A6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2d05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92d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92d05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2d05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6dd97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6dd9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6dd97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46958-BC12-431A-86A7-94DE7046C564}" type="slidenum">
              <a:rPr b="0" lang="ru-RU" sz="1200" spc="-1" strike="noStrike">
                <a:solidFill>
                  <a:srgbClr val="b6dd97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photobucket.com/albums/nn95/sveta_by/LJ/6-46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Calibri"/>
              </a:rPr>
              <a:t>Выполнив верно все задания, вы узнаете название самого крупного и долговечного дерева на земле. Высота этих деревьев достигает высоты  56-этажного здания. Диаметр нередко  равен 20 метрам. 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43" name="Рисунок 4" descr="Картинка 10 из 30237"/>
          <p:cNvPicPr/>
          <p:nvPr/>
        </p:nvPicPr>
        <p:blipFill>
          <a:blip r:embed="rId1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4" name="Содержимое 5"/>
              <p:cNvSpPr txBox="1"/>
              <p:nvPr/>
            </p:nvSpPr>
            <p:spPr>
              <a:xfrm>
                <a:off x="525600" y="1228680"/>
                <a:ext cx="14475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" name="Object 3"/>
              <p:cNvSpPr txBox="1"/>
              <p:nvPr/>
            </p:nvSpPr>
            <p:spPr>
              <a:xfrm>
                <a:off x="3405240" y="1071720"/>
                <a:ext cx="1190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" name="Object 4"/>
              <p:cNvSpPr txBox="1"/>
              <p:nvPr/>
            </p:nvSpPr>
            <p:spPr>
              <a:xfrm>
                <a:off x="5810400" y="1071720"/>
                <a:ext cx="11905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7230960" y="1384200"/>
                <a:ext cx="55584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4834080" y="1071720"/>
                <a:ext cx="71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Рисунок 4" descr="Картинка 10 из 30237"/>
          <p:cNvPicPr/>
          <p:nvPr/>
        </p:nvPicPr>
        <p:blipFill>
          <a:blip r:embed="rId1"/>
          <a:stretch/>
        </p:blipFill>
        <p:spPr>
          <a:xfrm>
            <a:off x="285840" y="1077840"/>
            <a:ext cx="8434440" cy="57801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2d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900" spc="-1" strike="noStrike">
                <a:solidFill>
                  <a:srgbClr val="002060"/>
                </a:solidFill>
                <a:latin typeface="Calibri"/>
              </a:rPr>
              <a:t>Секвойя</a:t>
            </a:r>
            <a:endParaRPr b="0" lang="en-US" sz="5900" spc="-1" strike="noStrike">
              <a:solidFill>
                <a:srgbClr val="92d050"/>
              </a:solidFill>
              <a:latin typeface="Calibri"/>
            </a:endParaRPr>
          </a:p>
        </p:txBody>
      </p:sp>
      <p:sp>
        <p:nvSpPr>
          <p:cNvPr id="153" name="Скругленный прямоугольник 13"/>
          <p:cNvSpPr/>
          <p:nvPr/>
        </p:nvSpPr>
        <p:spPr>
          <a:xfrm>
            <a:off x="2643120" y="214200"/>
            <a:ext cx="4143600" cy="85752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4" name="TextBox 14"/>
          <p:cNvSpPr/>
          <p:nvPr/>
        </p:nvSpPr>
        <p:spPr>
          <a:xfrm>
            <a:off x="2643120" y="214200"/>
            <a:ext cx="4357800" cy="82512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92d050"/>
                </a:solidFill>
                <a:latin typeface="Calibri"/>
              </a:rPr>
              <a:t>Проверь ответ</a:t>
            </a:r>
            <a:endParaRPr b="0" lang="en-US" sz="4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55" name="Стрелка вправо 7"/>
          <p:cNvSpPr/>
          <p:nvPr/>
        </p:nvSpPr>
        <p:spPr>
          <a:xfrm>
            <a:off x="7500960" y="5857920"/>
            <a:ext cx="1357200" cy="10000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ffffff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3">
            <a:hlinkClick r:id="" action="ppaction://hlinkshowjump?jump=previousslide"/>
          </p:cNvPr>
          <p:cNvSpPr/>
          <p:nvPr/>
        </p:nvSpPr>
        <p:spPr>
          <a:xfrm>
            <a:off x="5873760" y="3943440"/>
            <a:ext cx="1263600" cy="1312920"/>
          </a:xfrm>
          <a:custGeom>
            <a:avLst/>
            <a:gdLst>
              <a:gd name="textAreaLeft" fmla="*/ 81720 w 1263600"/>
              <a:gd name="textAreaRight" fmla="*/ 1181880 w 1263600"/>
              <a:gd name="textAreaTop" fmla="*/ 81720 h 1312920"/>
              <a:gd name="textAreaBottom" fmla="*/ 1231200 h 1312920"/>
            </a:gdLst>
            <a:ahLst/>
            <a:rect l="textAreaLeft" t="textAreaTop" r="textAreaRight" b="textAreaBottom"/>
            <a:pathLst>
              <a:path w="21600" h="22443">
                <a:moveTo>
                  <a:pt x="0" y="0"/>
                </a:moveTo>
                <a:lnTo>
                  <a:pt x="21600" y="0"/>
                </a:lnTo>
                <a:lnTo>
                  <a:pt x="21600" y="22443"/>
                </a:lnTo>
                <a:lnTo>
                  <a:pt x="0" y="22443"/>
                </a:lnTo>
                <a:close/>
              </a:path>
              <a:path fill="lightenLess" w="21600" h="224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443">
                <a:moveTo>
                  <a:pt x="21600" y="0"/>
                </a:moveTo>
                <a:lnTo>
                  <a:pt x="21600" y="22443"/>
                </a:lnTo>
                <a:lnTo>
                  <a:pt x="20200" y="21043"/>
                </a:lnTo>
                <a:lnTo>
                  <a:pt x="20200" y="1400"/>
                </a:lnTo>
                <a:close/>
              </a:path>
              <a:path fill="darkenLess" w="21600" h="22443">
                <a:moveTo>
                  <a:pt x="21600" y="22443"/>
                </a:moveTo>
                <a:lnTo>
                  <a:pt x="0" y="22443"/>
                </a:lnTo>
                <a:lnTo>
                  <a:pt x="1400" y="21043"/>
                </a:lnTo>
                <a:lnTo>
                  <a:pt x="20200" y="21043"/>
                </a:lnTo>
                <a:close/>
              </a:path>
              <a:path fill="lighten" w="21600" h="22443">
                <a:moveTo>
                  <a:pt x="0" y="224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043"/>
                </a:lnTo>
                <a:close/>
              </a:path>
              <a:path fill="darken" w="21600" h="22443">
                <a:moveTo>
                  <a:pt x="3794" y="7914"/>
                </a:moveTo>
                <a:lnTo>
                  <a:pt x="7301" y="7914"/>
                </a:lnTo>
                <a:lnTo>
                  <a:pt x="7301" y="13249"/>
                </a:lnTo>
                <a:cubicBezTo>
                  <a:pt x="7301" y="14172"/>
                  <a:pt x="8102" y="14903"/>
                  <a:pt x="9138" y="14903"/>
                </a:cubicBezTo>
                <a:lnTo>
                  <a:pt x="10800" y="14903"/>
                </a:lnTo>
                <a:cubicBezTo>
                  <a:pt x="11836" y="14903"/>
                  <a:pt x="12636" y="14172"/>
                  <a:pt x="12636" y="13249"/>
                </a:cubicBezTo>
                <a:lnTo>
                  <a:pt x="12636" y="7914"/>
                </a:lnTo>
                <a:lnTo>
                  <a:pt x="10800" y="7914"/>
                </a:lnTo>
                <a:lnTo>
                  <a:pt x="14308" y="4406"/>
                </a:lnTo>
                <a:lnTo>
                  <a:pt x="17981" y="7914"/>
                </a:lnTo>
                <a:lnTo>
                  <a:pt x="16144" y="7914"/>
                </a:lnTo>
                <a:lnTo>
                  <a:pt x="16144" y="13249"/>
                </a:lnTo>
                <a:cubicBezTo>
                  <a:pt x="16144" y="16017"/>
                  <a:pt x="13568" y="18576"/>
                  <a:pt x="10800" y="18576"/>
                </a:cubicBezTo>
                <a:lnTo>
                  <a:pt x="9138" y="18576"/>
                </a:lnTo>
                <a:cubicBezTo>
                  <a:pt x="6370" y="18576"/>
                  <a:pt x="3794" y="16017"/>
                  <a:pt x="3794" y="13249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pic>
        <p:nvPicPr>
          <p:cNvPr id="157" name="Прямоугольник 3" descr=""/>
          <p:cNvPicPr/>
          <p:nvPr/>
        </p:nvPicPr>
        <p:blipFill>
          <a:blip r:embed="rId1"/>
          <a:stretch/>
        </p:blipFill>
        <p:spPr>
          <a:xfrm>
            <a:off x="901800" y="1249200"/>
            <a:ext cx="6900840" cy="11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4" descr="0_63824_405dee6_L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9" name="Прямоугольник 2" descr=""/>
          <p:cNvPicPr/>
          <p:nvPr/>
        </p:nvPicPr>
        <p:blipFill>
          <a:blip r:embed="rId2"/>
          <a:stretch/>
        </p:blipFill>
        <p:spPr>
          <a:xfrm>
            <a:off x="2346480" y="1500120"/>
            <a:ext cx="42796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Calibri"/>
              </a:rPr>
              <a:t>Иллюстрация с  сайта</a:t>
            </a:r>
            <a:br>
              <a:rPr sz="2400"/>
            </a:br>
            <a:r>
              <a:rPr b="0" lang="ru-RU" sz="2000" spc="-1" strike="noStrike">
                <a:solidFill>
                  <a:srgbClr val="92d050"/>
                </a:solidFill>
                <a:latin typeface="Calibri"/>
              </a:rPr>
              <a:t>http://i302.photobucket.com/albums/nn95/sveta_by/LJ/6-46.jpg</a:t>
            </a:r>
            <a:r>
              <a:rPr b="0" lang="ru-RU" sz="4400" spc="-1" strike="noStrike">
                <a:solidFill>
                  <a:srgbClr val="92d05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92d05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43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4" name="Содержимое 5"/>
              <p:cNvSpPr txBox="1"/>
              <p:nvPr/>
            </p:nvSpPr>
            <p:spPr>
              <a:xfrm>
                <a:off x="487440" y="1144440"/>
                <a:ext cx="1523880" cy="8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3143160" y="1071720"/>
                <a:ext cx="912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5500800" y="1071720"/>
                <a:ext cx="87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6"/>
              <p:cNvSpPr txBox="1"/>
              <p:nvPr/>
            </p:nvSpPr>
            <p:spPr>
              <a:xfrm>
                <a:off x="6643800" y="1071720"/>
                <a:ext cx="71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7"/>
              <p:cNvSpPr txBox="1"/>
              <p:nvPr/>
            </p:nvSpPr>
            <p:spPr>
              <a:xfrm>
                <a:off x="4500720" y="1071720"/>
                <a:ext cx="67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Прямоугольник 10"/>
          <p:cNvSpPr/>
          <p:nvPr/>
        </p:nvSpPr>
        <p:spPr>
          <a:xfrm>
            <a:off x="1214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0" name="Прямоугольник 11"/>
          <p:cNvSpPr/>
          <p:nvPr/>
        </p:nvSpPr>
        <p:spPr>
          <a:xfrm>
            <a:off x="1214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1" name="Прямоугольник 14"/>
          <p:cNvSpPr/>
          <p:nvPr/>
        </p:nvSpPr>
        <p:spPr>
          <a:xfrm>
            <a:off x="1214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2" name="Прямоугольник 15"/>
          <p:cNvSpPr/>
          <p:nvPr/>
        </p:nvSpPr>
        <p:spPr>
          <a:xfrm>
            <a:off x="3500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3" name="Прямоугольник 16"/>
          <p:cNvSpPr/>
          <p:nvPr/>
        </p:nvSpPr>
        <p:spPr>
          <a:xfrm>
            <a:off x="3500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4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5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6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57" name="Прямоугольник 20"/>
          <p:cNvSpPr/>
          <p:nvPr/>
        </p:nvSpPr>
        <p:spPr>
          <a:xfrm>
            <a:off x="5786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59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0" name="Содержимое 5"/>
              <p:cNvSpPr txBox="1"/>
              <p:nvPr/>
            </p:nvSpPr>
            <p:spPr>
              <a:xfrm>
                <a:off x="525600" y="1150920"/>
                <a:ext cx="14475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3"/>
              <p:cNvSpPr txBox="1"/>
              <p:nvPr/>
            </p:nvSpPr>
            <p:spPr>
              <a:xfrm>
                <a:off x="3500280" y="1071720"/>
                <a:ext cx="6350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4"/>
              <p:cNvSpPr txBox="1"/>
              <p:nvPr/>
            </p:nvSpPr>
            <p:spPr>
              <a:xfrm>
                <a:off x="5643720" y="1071720"/>
                <a:ext cx="952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5"/>
              <p:cNvSpPr txBox="1"/>
              <p:nvPr/>
            </p:nvSpPr>
            <p:spPr>
              <a:xfrm>
                <a:off x="7000920" y="1071720"/>
                <a:ext cx="912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4471920" y="1071720"/>
                <a:ext cx="912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Прямоугольник 11"/>
          <p:cNvSpPr/>
          <p:nvPr/>
        </p:nvSpPr>
        <p:spPr>
          <a:xfrm>
            <a:off x="1214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6" name="Прямоугольник 14"/>
          <p:cNvSpPr/>
          <p:nvPr/>
        </p:nvSpPr>
        <p:spPr>
          <a:xfrm>
            <a:off x="1214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7" name="Прямоугольник 15"/>
          <p:cNvSpPr/>
          <p:nvPr/>
        </p:nvSpPr>
        <p:spPr>
          <a:xfrm>
            <a:off x="3500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8" name="Прямоугольник 16"/>
          <p:cNvSpPr/>
          <p:nvPr/>
        </p:nvSpPr>
        <p:spPr>
          <a:xfrm>
            <a:off x="3500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69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0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1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72" name="Прямоугольник 20"/>
          <p:cNvSpPr/>
          <p:nvPr/>
        </p:nvSpPr>
        <p:spPr>
          <a:xfrm>
            <a:off x="5786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74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5" name="Содержимое 5"/>
              <p:cNvSpPr txBox="1"/>
              <p:nvPr/>
            </p:nvSpPr>
            <p:spPr>
              <a:xfrm>
                <a:off x="542880" y="1114560"/>
                <a:ext cx="1413000" cy="95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3"/>
              <p:cNvSpPr txBox="1"/>
              <p:nvPr/>
            </p:nvSpPr>
            <p:spPr>
              <a:xfrm>
                <a:off x="3500280" y="1071720"/>
                <a:ext cx="675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4"/>
              <p:cNvSpPr txBox="1"/>
              <p:nvPr/>
            </p:nvSpPr>
            <p:spPr>
              <a:xfrm>
                <a:off x="5643720" y="1071720"/>
                <a:ext cx="912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5"/>
              <p:cNvSpPr txBox="1"/>
              <p:nvPr/>
            </p:nvSpPr>
            <p:spPr>
              <a:xfrm>
                <a:off x="6858000" y="1071720"/>
                <a:ext cx="87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6"/>
              <p:cNvSpPr txBox="1"/>
              <p:nvPr/>
            </p:nvSpPr>
            <p:spPr>
              <a:xfrm>
                <a:off x="4492800" y="1071720"/>
                <a:ext cx="87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0" name="Прямоугольник 14"/>
          <p:cNvSpPr/>
          <p:nvPr/>
        </p:nvSpPr>
        <p:spPr>
          <a:xfrm>
            <a:off x="1214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1" name="Прямоугольник 15"/>
          <p:cNvSpPr/>
          <p:nvPr/>
        </p:nvSpPr>
        <p:spPr>
          <a:xfrm>
            <a:off x="3500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2" name="Прямоугольник 16"/>
          <p:cNvSpPr/>
          <p:nvPr/>
        </p:nvSpPr>
        <p:spPr>
          <a:xfrm>
            <a:off x="3500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3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4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5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86" name="Прямоугольник 20"/>
          <p:cNvSpPr/>
          <p:nvPr/>
        </p:nvSpPr>
        <p:spPr>
          <a:xfrm>
            <a:off x="5786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88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89" name="Содержимое 5"/>
              <p:cNvSpPr txBox="1"/>
              <p:nvPr/>
            </p:nvSpPr>
            <p:spPr>
              <a:xfrm>
                <a:off x="525600" y="1197000"/>
                <a:ext cx="14475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3"/>
              <p:cNvSpPr txBox="1"/>
              <p:nvPr/>
            </p:nvSpPr>
            <p:spPr>
              <a:xfrm>
                <a:off x="3214800" y="1071720"/>
                <a:ext cx="952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1" name="Object 4"/>
              <p:cNvSpPr txBox="1"/>
              <p:nvPr/>
            </p:nvSpPr>
            <p:spPr>
              <a:xfrm>
                <a:off x="5929200" y="1071720"/>
                <a:ext cx="1150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5"/>
              <p:cNvSpPr txBox="1"/>
              <p:nvPr/>
            </p:nvSpPr>
            <p:spPr>
              <a:xfrm>
                <a:off x="7278840" y="1071720"/>
                <a:ext cx="11109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4421160" y="1071720"/>
                <a:ext cx="11113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Прямоугольник 15"/>
          <p:cNvSpPr/>
          <p:nvPr/>
        </p:nvSpPr>
        <p:spPr>
          <a:xfrm>
            <a:off x="3500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5" name="Прямоугольник 16"/>
          <p:cNvSpPr/>
          <p:nvPr/>
        </p:nvSpPr>
        <p:spPr>
          <a:xfrm>
            <a:off x="3500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6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7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8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99" name="Прямоугольник 20"/>
          <p:cNvSpPr/>
          <p:nvPr/>
        </p:nvSpPr>
        <p:spPr>
          <a:xfrm>
            <a:off x="5786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01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2" name="Содержимое 5"/>
              <p:cNvSpPr txBox="1"/>
              <p:nvPr/>
            </p:nvSpPr>
            <p:spPr>
              <a:xfrm>
                <a:off x="542880" y="1219320"/>
                <a:ext cx="1413000" cy="74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3"/>
              <p:cNvSpPr txBox="1"/>
              <p:nvPr/>
            </p:nvSpPr>
            <p:spPr>
              <a:xfrm>
                <a:off x="3524400" y="1071720"/>
                <a:ext cx="9522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4"/>
              <p:cNvSpPr txBox="1"/>
              <p:nvPr/>
            </p:nvSpPr>
            <p:spPr>
              <a:xfrm>
                <a:off x="5500800" y="1071720"/>
                <a:ext cx="952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9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Object 5"/>
              <p:cNvSpPr txBox="1"/>
              <p:nvPr/>
            </p:nvSpPr>
            <p:spPr>
              <a:xfrm>
                <a:off x="6786720" y="1071720"/>
                <a:ext cx="67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6"/>
              <p:cNvSpPr txBox="1"/>
              <p:nvPr/>
            </p:nvSpPr>
            <p:spPr>
              <a:xfrm>
                <a:off x="4591080" y="1071720"/>
                <a:ext cx="67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4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Прямоугольник 15"/>
          <p:cNvSpPr/>
          <p:nvPr/>
        </p:nvSpPr>
        <p:spPr>
          <a:xfrm>
            <a:off x="3500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8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09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0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11" name="Прямоугольник 20"/>
          <p:cNvSpPr/>
          <p:nvPr/>
        </p:nvSpPr>
        <p:spPr>
          <a:xfrm>
            <a:off x="5786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13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4" name="Содержимое 5"/>
              <p:cNvSpPr txBox="1"/>
              <p:nvPr/>
            </p:nvSpPr>
            <p:spPr>
              <a:xfrm>
                <a:off x="525600" y="1181160"/>
                <a:ext cx="1447560" cy="81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7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  <m:r>
                      <m:t xml:space="preserve">−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3"/>
              <p:cNvSpPr txBox="1"/>
              <p:nvPr/>
            </p:nvSpPr>
            <p:spPr>
              <a:xfrm>
                <a:off x="3571920" y="1071720"/>
                <a:ext cx="7142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4"/>
              <p:cNvSpPr txBox="1"/>
              <p:nvPr/>
            </p:nvSpPr>
            <p:spPr>
              <a:xfrm>
                <a:off x="5572080" y="1071720"/>
                <a:ext cx="9525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5"/>
              <p:cNvSpPr txBox="1"/>
              <p:nvPr/>
            </p:nvSpPr>
            <p:spPr>
              <a:xfrm>
                <a:off x="6715080" y="1071720"/>
                <a:ext cx="7146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4433760" y="1071720"/>
                <a:ext cx="992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7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3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9" name="Прямоугольник 15"/>
          <p:cNvSpPr/>
          <p:nvPr/>
        </p:nvSpPr>
        <p:spPr>
          <a:xfrm>
            <a:off x="3500280" y="2357280"/>
            <a:ext cx="2286000" cy="150048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0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1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22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24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25" name="Содержимое 5"/>
              <p:cNvSpPr txBox="1"/>
              <p:nvPr/>
            </p:nvSpPr>
            <p:spPr>
              <a:xfrm>
                <a:off x="525600" y="1150920"/>
                <a:ext cx="144756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3"/>
              <p:cNvSpPr txBox="1"/>
              <p:nvPr/>
            </p:nvSpPr>
            <p:spPr>
              <a:xfrm>
                <a:off x="3564000" y="1071720"/>
                <a:ext cx="873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1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4"/>
              <p:cNvSpPr txBox="1"/>
              <p:nvPr/>
            </p:nvSpPr>
            <p:spPr>
              <a:xfrm>
                <a:off x="6357960" y="1071720"/>
                <a:ext cx="67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5"/>
              <p:cNvSpPr txBox="1"/>
              <p:nvPr/>
            </p:nvSpPr>
            <p:spPr>
              <a:xfrm>
                <a:off x="7429680" y="1428840"/>
                <a:ext cx="5554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6"/>
              <p:cNvSpPr txBox="1"/>
              <p:nvPr/>
            </p:nvSpPr>
            <p:spPr>
              <a:xfrm>
                <a:off x="4857840" y="1071720"/>
                <a:ext cx="1150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0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1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32" name="Прямоугольник 19"/>
          <p:cNvSpPr/>
          <p:nvPr/>
        </p:nvSpPr>
        <p:spPr>
          <a:xfrm>
            <a:off x="5786280" y="385776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858160" cy="654120"/>
          </a:xfrm>
          <a:prstGeom prst="rect">
            <a:avLst/>
          </a:prstGeom>
          <a:solidFill>
            <a:srgbClr val="00b050"/>
          </a:solidFill>
          <a:ln w="31680">
            <a:solidFill>
              <a:srgbClr val="ffffff"/>
            </a:solidFill>
            <a:miter/>
          </a:ln>
          <a:effectLst>
            <a:outerShdw dist="25560" dir="5400000" blurRad="0" rotWithShape="0">
              <a:srgbClr val="000000">
                <a:alpha val="4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Вычислите, укажите правильный ответ</a:t>
            </a:r>
            <a:endParaRPr b="0" lang="en-US" sz="4000" spc="-1" strike="noStrike">
              <a:solidFill>
                <a:srgbClr val="92d050"/>
              </a:solidFill>
              <a:latin typeface="Calibri"/>
            </a:endParaRPr>
          </a:p>
        </p:txBody>
      </p:sp>
      <p:pic>
        <p:nvPicPr>
          <p:cNvPr id="134" name="Рисунок 4" descr="Картинка 10 из 3023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4280" y="2354400"/>
            <a:ext cx="6572520" cy="4503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5" name="Содержимое 5"/>
              <p:cNvSpPr txBox="1"/>
              <p:nvPr/>
            </p:nvSpPr>
            <p:spPr>
              <a:xfrm>
                <a:off x="525600" y="1166760"/>
                <a:ext cx="1447560" cy="84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3"/>
              <p:cNvSpPr txBox="1"/>
              <p:nvPr/>
            </p:nvSpPr>
            <p:spPr>
              <a:xfrm>
                <a:off x="3429000" y="1071720"/>
                <a:ext cx="67464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4"/>
              <p:cNvSpPr txBox="1"/>
              <p:nvPr/>
            </p:nvSpPr>
            <p:spPr>
              <a:xfrm>
                <a:off x="5624640" y="1071720"/>
                <a:ext cx="992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5"/>
              <p:cNvSpPr txBox="1"/>
              <p:nvPr/>
            </p:nvSpPr>
            <p:spPr>
              <a:xfrm>
                <a:off x="6858000" y="1071720"/>
                <a:ext cx="992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6"/>
              <p:cNvSpPr txBox="1"/>
              <p:nvPr/>
            </p:nvSpPr>
            <p:spPr>
              <a:xfrm>
                <a:off x="4433760" y="1071720"/>
                <a:ext cx="99216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58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8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0" name="Прямоугольник 17"/>
          <p:cNvSpPr/>
          <p:nvPr/>
        </p:nvSpPr>
        <p:spPr>
          <a:xfrm>
            <a:off x="3500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  <p:sp>
        <p:nvSpPr>
          <p:cNvPr id="141" name="Прямоугольник 18"/>
          <p:cNvSpPr/>
          <p:nvPr/>
        </p:nvSpPr>
        <p:spPr>
          <a:xfrm>
            <a:off x="5786280" y="5357880"/>
            <a:ext cx="2286000" cy="1500120"/>
          </a:xfrm>
          <a:prstGeom prst="rect">
            <a:avLst/>
          </a:prstGeom>
          <a:solidFill>
            <a:srgbClr val="0070c0"/>
          </a:solidFill>
          <a:ln w="19080">
            <a:solidFill>
              <a:srgbClr val="862a4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2d05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11T05:28:19Z</dcterms:created>
  <dc:creator>1</dc:creator>
  <dc:description/>
  <dc:language>en-US</dc:language>
  <cp:lastModifiedBy>RePack by Diakov</cp:lastModifiedBy>
  <dcterms:modified xsi:type="dcterms:W3CDTF">2020-01-30T14:44:41Z</dcterms:modified>
  <cp:revision>66</cp:revision>
  <dc:subject/>
  <dc:title>Выполнив верно все задания, вы узнаете название самого крупного и долговечного дерева на земле. Высота этих деревьев достигает высоты56-этажного здания. Диаметр нередко  равен 20 метрам.</dc:title>
</cp:coreProperties>
</file>